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DA2-1F82-4053-AAA7-EDD0B167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2B2-06EA-45EF-A889-21C31C76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101-FDB7-4643-9CA7-ADC7DC1C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EA5-0A46-491E-8BAD-A54BE1C0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15FD3-D327-4B2E-B3A8-FCD1FCD0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22FAC-2A57-4082-B2DA-D05D318C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A97B0-A9AB-44EF-9F47-3B30C413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63F71-3246-427F-B3BF-0AD21A68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F884B-5A52-4033-A3B1-D1ADFB33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9BDAE-E915-4184-A103-2C77D468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11570-9928-43BA-B091-7A19BBDB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785-6AB5-4542-BFE1-44AEFD5A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5F83A-4EC3-4B74-ADC8-6D721E19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1EB8B-6D77-44BA-AF8C-ECE0B0B7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F6E61-5EF7-4ECA-9196-D6B3D0C6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11DD2-1F06-4F41-9A79-4A4B9567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97FE2-5926-4587-A8B6-858D942C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EB3-ABE8-4BD9-825C-28821BCB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07C-0224-4A72-B9A4-484C40E9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F50-99BC-4BEE-9249-93B1B14F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804-04DA-481D-865A-8F53EA39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7EF-D551-4738-B518-9A4ABED7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228-F2A4-4C86-8FA9-2A75E68A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D85-0711-4A1B-8A49-D8695C8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123B-2BB4-41E6-8255-19F2041234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A38B-5526-4B68-A1CE-7A5E152912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. 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hort essays in text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with a part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P 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Wa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a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on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ortal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eshmen 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in no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out new no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movie/do work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uni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finished with story, do questions 2, 3 and 4. pg. 3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1,2,3,4 on pg. 4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4:20:27Z</dcterms:created>
  <dc:creator>VMS</dc:creator>
  <dc:description/>
  <dc:language>en-US</dc:language>
  <cp:lastModifiedBy>VMS</cp:lastModifiedBy>
  <dcterms:modified xsi:type="dcterms:W3CDTF">2009-11-23T21:15:48Z</dcterms:modified>
  <cp:revision>2</cp:revision>
  <dc:subject/>
  <dc:title>English</dc:title>
</cp:coreProperties>
</file>